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5BC-90FE-4242-980B-E6FE898B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3FD-EEC4-4491-9126-CE56652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7BF-AE86-4212-A50E-ECFE344E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A33-FF86-43F0-A4EA-017D789F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F27-8D6A-47A4-935F-12606A0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C8C-4D46-457C-9AB7-2C577B3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88F-878D-4CD3-8DBD-84924A4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A59-BA8C-4FEB-9F21-E36DEA3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952-0497-4A79-B93C-5D822C1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399-62A3-4CB8-B4FC-7A4883F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15F-8FCB-4F5D-BE62-F63B50E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2DF-2A23-4484-A7BE-13B0D4F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0D3E-211A-40A4-9562-A2B952F9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380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705720" y="6019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0-30T18:59:46Z</dcterms:modified>
  <cp:revision>5</cp:revision>
  <dc:subject/>
  <dc:title>Slide 1</dc:title>
</cp:coreProperties>
</file>